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6D6-E70F-4304-9478-F093618F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BBD-1C57-43E6-88E9-130AC9F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5DD-E466-4211-A3B0-A7472581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691-7A57-449B-B66F-A11654A6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1D9-F8A4-419E-A833-D31573C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6E0-AFA0-4A0D-9160-A58DE259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315-1E63-46C9-AA0C-524D123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63C-CEF8-495B-97CB-9DCBF719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8B2-FD95-4804-A800-54CE341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D7-A466-4C07-B499-58F5912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2C9-1E99-4EDF-A9B6-6063A32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689-26DA-4AAE-AA18-D92C878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1037-EDA4-49D7-9FA7-FC0C3CB0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of all the elements’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Elements – 3 main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tals – majority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ood conductors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id at room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malleable (can be 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114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ductile (drawn into thin w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lef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14520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 = elements in groups 3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886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m a bridge between elements on the left side and right side of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724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have more properties in common than elemen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s: mercury, aluminum, copper, nicke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,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onmetals – to the righ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2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27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or conductors of electricity/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are gasses at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/chemical properties vary grea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nonmetals: flourine (most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, oxygen,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lloids – the elements that form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all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are characteristics of both metals and no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8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loids:  silicon, Ars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across a period – properties within a period change in similar ways from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267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ross a period (from L to R) the elements become less metallic and more non-metallic in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20:54Z</dcterms:created>
  <dc:creator>Farwell Area Schools</dc:creator>
  <dc:description/>
  <dc:language>en-US</dc:language>
  <cp:lastModifiedBy>Farwell Area Schools</cp:lastModifiedBy>
  <dcterms:modified xsi:type="dcterms:W3CDTF">2008-09-19T18:39:13Z</dcterms:modified>
  <cp:revision>7</cp:revision>
  <dc:subject/>
  <dc:title>Note Guide 2-2 day 2</dc:title>
</cp:coreProperties>
</file>